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jeop.wav" ContentType="audio/x-wav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CE65-F6AE-4F0A-AED7-401BF29D9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87A3-FA4A-4700-9468-3A4C559D8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C79E-E771-40CB-83C3-DEE659FDD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8FCD-A7B1-49D3-8254-3C4FBA401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68151-E3FA-4653-A9ED-FE06E4066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7293E-6393-4495-BD59-8F6A350E4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7DB40-1C5A-4781-8E67-B48980D55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06EDD-48A4-48E2-9D18-4BD524EDD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28BDD-626D-44B2-B1AB-D9F6F4F87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BDE5F-C47B-4CF5-B665-C3BAA85C6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2D761-BC42-4027-9A52-D9FE560C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D5A0-5C90-4188-945C-A0733A1E6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7BCFD-7506-451C-9998-2B8797E9E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2210C-47DA-4072-961E-CFC3DCB3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8D218-2C20-48EF-AE1E-3D57A96E6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AB5C3-22ED-46BA-98FD-8A7414E2D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D553A-2553-46BF-BD80-6C6DF118A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3512-A0EE-4677-A30C-77189838D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4F28-8942-44D4-98AC-45D80130C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F446-AEC5-4E91-B1A5-0CE5FA815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D56C-8290-4BE7-B179-75AD4923D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C91B-DA9A-4337-9233-8B6DDEF01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5480-437D-4528-A4A4-D66333FB6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FA7C-8A9B-4072-91A0-700CBCBEA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CF176-39C8-499D-B47F-DC073EDA37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C0F23-81DF-4118-8D8D-A04FCD836F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32.xml"/><Relationship Id="rId10" Type="http://schemas.openxmlformats.org/officeDocument/2006/relationships/slide" Target="slide22.xml"/><Relationship Id="rId11" Type="http://schemas.openxmlformats.org/officeDocument/2006/relationships/slide" Target="slide42.xml"/><Relationship Id="rId12" Type="http://schemas.openxmlformats.org/officeDocument/2006/relationships/slide" Target="slide14.xml"/><Relationship Id="rId13" Type="http://schemas.openxmlformats.org/officeDocument/2006/relationships/slide" Target="slide24.xml"/><Relationship Id="rId14" Type="http://schemas.openxmlformats.org/officeDocument/2006/relationships/slide" Target="slide34.xml"/><Relationship Id="rId15" Type="http://schemas.openxmlformats.org/officeDocument/2006/relationships/slide" Target="slide44.xml"/><Relationship Id="rId16" Type="http://schemas.openxmlformats.org/officeDocument/2006/relationships/slide" Target="slide16.xml"/><Relationship Id="rId17" Type="http://schemas.openxmlformats.org/officeDocument/2006/relationships/slide" Target="slide26.xml"/><Relationship Id="rId18" Type="http://schemas.openxmlformats.org/officeDocument/2006/relationships/slide" Target="slide36.xml"/><Relationship Id="rId19" Type="http://schemas.openxmlformats.org/officeDocument/2006/relationships/slide" Target="slide46.xml"/><Relationship Id="rId20" Type="http://schemas.openxmlformats.org/officeDocument/2006/relationships/slide" Target="slide18.xml"/><Relationship Id="rId21" Type="http://schemas.openxmlformats.org/officeDocument/2006/relationships/slide" Target="slide28.xml"/><Relationship Id="rId22" Type="http://schemas.openxmlformats.org/officeDocument/2006/relationships/slide" Target="slide38.xml"/><Relationship Id="rId23" Type="http://schemas.openxmlformats.org/officeDocument/2006/relationships/slide" Target="slide48.xml"/><Relationship Id="rId24" Type="http://schemas.openxmlformats.org/officeDocument/2006/relationships/slide" Target="slide20.xml"/><Relationship Id="rId25" Type="http://schemas.openxmlformats.org/officeDocument/2006/relationships/slide" Target="slide30.xml"/><Relationship Id="rId26" Type="http://schemas.openxmlformats.org/officeDocument/2006/relationships/slide" Target="slide40.xml"/><Relationship Id="rId27" Type="http://schemas.openxmlformats.org/officeDocument/2006/relationships/slide" Target="slide50.xml"/><Relationship Id="rId28" Type="http://schemas.openxmlformats.org/officeDocument/2006/relationships/image" Target="../media/image2.jpeg"/><Relationship Id="rId29" Type="http://schemas.openxmlformats.org/officeDocument/2006/relationships/image" Target="../media/image3.jpeg"/><Relationship Id="rId30" Type="http://schemas.openxmlformats.org/officeDocument/2006/relationships/image" Target="../media/image4.jpeg"/><Relationship Id="rId31" Type="http://schemas.openxmlformats.org/officeDocument/2006/relationships/image" Target="../media/image5.jpeg"/><Relationship Id="rId32" Type="http://schemas.openxmlformats.org/officeDocument/2006/relationships/image" Target="../media/image6.jpeg"/><Relationship Id="rId33" Type="http://schemas.openxmlformats.org/officeDocument/2006/relationships/audio" Target="../media/jeop.wav"/><Relationship Id="rId3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Times New Roman"/>
              </a:rPr>
              <a:t>Jeopardy</a:t>
            </a:r>
            <a:endParaRPr b="0" lang="en-US" sz="8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762120" y="1533600"/>
          <a:ext cx="7775280" cy="463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33600"/>
                    <a:ext cx="7775280" cy="46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899280" y="175248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62320" y="17524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6920" y="175248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94960" y="175248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42880" y="1752480"/>
            <a:ext cx="144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402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00720" y="3241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0072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0072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00720" y="5527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124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1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124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5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167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7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4112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8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2440" y="4038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9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167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0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40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1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6488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2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124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3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676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4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406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5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6488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6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0124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8"/>
          <a:stretch/>
        </p:blipFill>
        <p:spPr>
          <a:xfrm>
            <a:off x="838080" y="1143000"/>
            <a:ext cx="1527120" cy="1143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9"/>
          <a:stretch/>
        </p:blipFill>
        <p:spPr>
          <a:xfrm>
            <a:off x="2362320" y="1143000"/>
            <a:ext cx="1527120" cy="1143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0"/>
          <a:stretch/>
        </p:blipFill>
        <p:spPr>
          <a:xfrm>
            <a:off x="3886200" y="1143000"/>
            <a:ext cx="1527120" cy="1143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1"/>
          <a:stretch/>
        </p:blipFill>
        <p:spPr>
          <a:xfrm>
            <a:off x="5410080" y="1143000"/>
            <a:ext cx="1527120" cy="11430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2"/>
          <a:stretch/>
        </p:blipFill>
        <p:spPr>
          <a:xfrm>
            <a:off x="6934320" y="1143000"/>
            <a:ext cx="15271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je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893960" y="3168720"/>
            <a:ext cx="558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y is this piece significan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919080" y="2362320"/>
            <a:ext cx="7375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oth Allegorical and Classic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irst use of a nude since classical tim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otticelli could have been killed f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aganis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892520" y="3168720"/>
            <a:ext cx="339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is the artis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891440" y="3168720"/>
            <a:ext cx="193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asacci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893600" y="3168720"/>
            <a:ext cx="381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re is it locate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894680" y="3168720"/>
            <a:ext cx="653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rancacci Chapel, Santa Maria d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rmine, Flore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893240" y="3168720"/>
            <a:ext cx="33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dat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890720" y="316872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425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892880" y="31687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Media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890720" y="3168720"/>
            <a:ext cx="14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resc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892520" y="3168720"/>
            <a:ext cx="339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is the artis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893960" y="3168720"/>
            <a:ext cx="478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significanc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891800" y="3168720"/>
            <a:ext cx="670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ses a light source and shadow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ackground is vag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ocus on anguish of Adam and Ev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892520" y="3168720"/>
            <a:ext cx="339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is the artis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891440" y="3168720"/>
            <a:ext cx="200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antegn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893240" y="3168720"/>
            <a:ext cx="33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dat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1890720" y="316872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50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1893960" y="3168720"/>
            <a:ext cx="512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artistic Perio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892520" y="3168720"/>
            <a:ext cx="354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rly Renaiss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892880" y="31687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Media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892160" y="3168720"/>
            <a:ext cx="386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empura on Canv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892880" y="3168720"/>
            <a:ext cx="187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otticell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893960" y="3168720"/>
            <a:ext cx="478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significanc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892520" y="3168720"/>
            <a:ext cx="460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ses foreshorten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hows tradged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ooks like an engrav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1892520" y="3168720"/>
            <a:ext cx="339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is the artis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1892160" y="3168720"/>
            <a:ext cx="334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orenzo Ghibert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1893240" y="3168720"/>
            <a:ext cx="376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are the date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1890720" y="3168720"/>
            <a:ext cx="21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425-145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1893960" y="3168720"/>
            <a:ext cx="460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re are they locate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1892160" y="3168720"/>
            <a:ext cx="356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lorence Baptistr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1894680" y="3168720"/>
            <a:ext cx="661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artistic Period are they from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1892520" y="3168720"/>
            <a:ext cx="354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rly Renaiss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892880" y="3168720"/>
            <a:ext cx="496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 what year was it mad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1893240" y="3168720"/>
            <a:ext cx="369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media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689400" y="1828800"/>
            <a:ext cx="8127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ilded Bronze Relie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ther Info: Last set of doors commission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or the Florence Baptister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ot rid of the earlier quatrefoil patter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cenes from the old testa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lief gives dept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1892520" y="3168720"/>
            <a:ext cx="339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is the artis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1891800" y="3168720"/>
            <a:ext cx="167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apha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893240" y="3168720"/>
            <a:ext cx="33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dat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1890720" y="316872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506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1893240" y="3168720"/>
            <a:ext cx="369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media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1891440" y="3168720"/>
            <a:ext cx="246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il on Pan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893600" y="3168720"/>
            <a:ext cx="587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commissioned this piec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1892160" y="3168720"/>
            <a:ext cx="290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incenzo Naz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890720" y="316872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48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1893240" y="3168720"/>
            <a:ext cx="383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significan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766080" y="3048120"/>
            <a:ext cx="784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igures are in a pyramid shape (harmony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le scene projects serenit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09960" y="2438280"/>
            <a:ext cx="8619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author wrote, “If one man kills another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t  murder, but if a hundred thousand men ki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other hundred thousand, it is considered 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ct of glory!?”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746748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1" fill="hold"/>
                                        <p:tgtEl>
                                          <p:spTgt spid="2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 Answer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505520" y="2766960"/>
            <a:ext cx="4193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o is Tolsto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(The book i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ingdom of Go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893600" y="3168720"/>
            <a:ext cx="542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style period is it from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892520" y="3168720"/>
            <a:ext cx="354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rly Renaiss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893600" y="3168720"/>
            <a:ext cx="587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commissioned this piec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893960" y="3168720"/>
            <a:ext cx="588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Medici Family in Flore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7T14:16:32Z</dcterms:created>
  <dc:creator>SCPS</dc:creator>
  <dc:description/>
  <dc:language>en-US</dc:language>
  <cp:lastModifiedBy>sylvanuse</cp:lastModifiedBy>
  <dcterms:modified xsi:type="dcterms:W3CDTF">2007-05-07T17:38:20Z</dcterms:modified>
  <cp:revision>17</cp:revision>
  <dc:subject/>
  <dc:title>Jeopardy</dc:title>
</cp:coreProperties>
</file>